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9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5B0-997A-4615-8E52-0179B733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25E-0BE4-4FE3-9886-A38FFB57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739-82D7-45B9-AE9D-09B9CA9F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351-AB83-4A93-8843-573EFFD7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4AE-3572-43C4-AA7E-FEC979C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82C-7BA1-49F5-B516-E855A81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07F-1C62-475C-B01A-AA8E6EEF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68D-02E9-4E8A-AA44-70075749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CCF-8377-4307-B2F2-E65FCE52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3EF-B8BE-401F-B579-3510F16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9C6-BED0-4F64-BBC8-9B5CC79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950-4E20-4250-B9AC-3B16387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7 April 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Annual Review: S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6A1C1B72-A614-4BA5-A001-3C7089F2BAA7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46080" y="163080"/>
            <a:ext cx="715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e-VLBI correlator mode: control interfac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9800" y="1200240"/>
            <a:ext cx="7140600" cy="395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08160" y="3535200"/>
            <a:ext cx="7750080" cy="28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57B-4AA7-404A-A878-66992222D25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6960" y="349200"/>
            <a:ext cx="83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esterbork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e-EVN as a unique instr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5000" y="1494000"/>
            <a:ext cx="7204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bork Synthesis Array data may help in calibration (amplitude,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ircular polariz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help to confirm detection/non-detection of weak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ld be used as a ‘built-in’ alert instrument for the e-EV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 can help improving coordinates of new transie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daptive scheduling, this could be immediately us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LBI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to mention the additional information on the very large-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 (which we normally waste when we do not reduce Wb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ong with the EV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ow long will Westerbork be still around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CAF-01EB-4128-9EDD-69702AE9E9F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000" y="272880"/>
            <a:ext cx="68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e-EVN as a trigger instrumen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1066680"/>
            <a:ext cx="7203960" cy="54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we are not good in responding ToOs, but good in providing qu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, can we turn around the log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ly could monitor known transient sources (e.g. microquasars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S1915+105) in a snapshot mode during the e-VLBI tests, regul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of a flare, report to the community, providing 0-epoch map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 possible when a ToO VLBI run follows a single dish trigg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ly accessible for the whole astronomical community, ready map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VN archive (all public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more sensitivity and dynamic scheduling, may continue thi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w X-ray transients or gamma bur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How shall we select these key science target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Can we contribute to X-ray and gamma ray missions like G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Have invested a lot of money in e-VLBI, now let us invest a great deal of observing t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819-BD29-480F-93B7-E0364604F3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840" y="539280"/>
            <a:ext cx="715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Monitoring tools: Integrating fringe display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4760" y="1674720"/>
            <a:ext cx="5751360" cy="46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7DB-3078-4697-A58A-D845DF3EAD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71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Monitoring tools: Data status monito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3960" y="1157400"/>
            <a:ext cx="6424560" cy="537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30240" y="1150920"/>
            <a:ext cx="6526080" cy="5396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479600" y="1014480"/>
            <a:ext cx="6459480" cy="541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920960" y="944640"/>
            <a:ext cx="6464160" cy="5408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74840" y="857160"/>
            <a:ext cx="6558120" cy="54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CEA-6A61-4AD2-B349-BD6F0C5081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71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Monitoring tools: Data status monito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540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33720" y="1405080"/>
            <a:ext cx="6076800" cy="50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3A7-1A8A-4238-B7CF-CB6E3F5E9E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840" y="12816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Rapid adjustment of correlator params: vex edit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760" y="1047600"/>
            <a:ext cx="4041720" cy="373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44600" y="1414440"/>
            <a:ext cx="4041720" cy="37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612880" y="1468440"/>
            <a:ext cx="6303960" cy="51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4378320" cy="34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963-629C-40F8-A4B4-0967BF21D9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(near) Real-time analysis: streamlining of post process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6560" y="2016000"/>
            <a:ext cx="7704000" cy="38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55E-5308-4242-B818-2F3697CDDF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0640" y="235080"/>
            <a:ext cx="7407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Web-based Post-process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1480" y="1015920"/>
            <a:ext cx="4476960" cy="432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4080" y="1209600"/>
            <a:ext cx="4478400" cy="433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501920" y="1554120"/>
            <a:ext cx="50227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031840" y="1758960"/>
            <a:ext cx="4967280" cy="4262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548080" y="2006640"/>
            <a:ext cx="4975200" cy="426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110040" y="2090880"/>
            <a:ext cx="4946400" cy="424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755880" y="2104920"/>
            <a:ext cx="4913280" cy="421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196-7017-4A3B-A827-CA293FEF9C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6920" y="304920"/>
            <a:ext cx="36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800" y="1341360"/>
            <a:ext cx="67168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re already very good in quick science turnaround: on the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processing/pipelining is possi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512 Mbs and with Effelsberg, Shanghai and other new telescop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will also be very good in sensitivity and resolution (in 2007/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re poor with immediate good cal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system is not suitable for real T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have to be able to produce high dynamic range maps of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ing on timescales of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must be able to change schedule on the fly to be able to 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new transients with poor coordinat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74A-49CA-44C0-9018-2761726D2D7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8280" y="12060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lgol, 14 December 2006 ru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9840" y="48006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sizmadia et 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in pre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919240"/>
            <a:ext cx="4457880" cy="3481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49680" y="1001880"/>
            <a:ext cx="533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taneous optical photometry and e-EVN o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 GHz, 256 Mbps) during secondary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flared – total intensity and circular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s consistent between WSRT and e-EV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re emission ~2 mas offset from the CP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804960"/>
            <a:ext cx="3124080" cy="300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1000" y="316224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ed proper motion dur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hours run –fitted orbit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AB close binary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47800" y="685800"/>
            <a:ext cx="5675400" cy="5791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429000" y="160164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Dedicated observations of such f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will be challenging even for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LGOL_WB_V" descr=""/>
          <p:cNvPicPr/>
          <p:nvPr/>
        </p:nvPicPr>
        <p:blipFill>
          <a:blip r:embed="rId4"/>
          <a:stretch/>
        </p:blipFill>
        <p:spPr>
          <a:xfrm>
            <a:off x="1752480" y="685800"/>
            <a:ext cx="560088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980-4578-4AB2-8367-331B0417C70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Guest</cp:lastModifiedBy>
  <dcterms:modified xsi:type="dcterms:W3CDTF">2002-08-22T22:31:46Z</dcterms:modified>
  <cp:revision>47</cp:revision>
  <dc:subject/>
  <dc:title>Slide 1</dc:title>
</cp:coreProperties>
</file>